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21A8-73E5-4CFB-BD2C-8E13376A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8BE1-186A-456C-B519-F669F2C6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C22-13E5-43B3-8C52-60A26445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2084-BD42-4298-8AF9-A46AAF25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B497-1BF0-4BF6-AE64-EEB701CB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01D0-3D96-41C3-8381-DE468D67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8A25-3921-4388-ADA6-E6C6ADCE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F1EC-493A-43EE-A4AF-0F5230F1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E2F2-76CD-4917-BCF5-E2BB26AD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CFE0-945E-49C2-A74D-65036E3A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23EE-68C4-48C7-ACA7-8D80CCDD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5F97-877E-4BEA-8146-5DB7F98C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B10C-18C6-46B6-AA0E-87866C59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4AAF-B95D-48B6-B9AB-CC10146C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F0F0-C9D8-4EC3-A490-736FB7E3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0695-0763-4C09-BED9-3896EB6E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6378-D0EB-4E16-B3F9-1CE0C7D5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E961-46BF-4A24-8547-E14AEC20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4F3D-5771-47FF-850B-645D70F3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A7C46-680C-494E-B321-7A83E814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014C-E403-4B08-994C-67137FDC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1EDE5-A498-429E-8BF0-96C61BB2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0785C-DFFB-464C-B1E4-A6077DF0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6953B-F483-491D-82F2-2CC115BB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CA224-6720-424A-93D9-CC1704F2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897C2-62D0-4F7C-A334-369F6EF0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8DBFF-039E-4598-8899-83115803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8C50D-D977-4603-8700-E1DD2906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85316-0AD9-4C21-AD87-BFC82E1E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5E03A-6469-49BE-80F6-2A9B1C41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A8FFF-7D4B-4231-926B-0471B0EA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0770-9904-4087-A924-02B4D13B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766D5-AA15-427F-990B-CB62AE13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B5A35-10AA-443A-BA2E-F5188009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252B3-0710-4356-921A-5436DA6F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0A027-715F-4A36-A7DB-4C9C0529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5A660-F285-47F7-9225-174283AA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4DDE9-BC0C-4FF1-B9E6-A455F94D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9D98C-36C7-4AAB-8C2B-1A724815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E0B1D-7391-404A-A306-C52EECC3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C3DFF-71AC-4A32-AC92-311F3D49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8CAA3-E0F4-444F-84C3-B1C73790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6B5-04ED-47E4-AE33-C18F71D3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6B28F-C1CC-4F67-859B-CAD5CDDA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08FEF-AEF5-4639-8A12-A40804BF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68052-FEA6-45D2-A6CD-AA8299B0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CCB3-7072-4297-8511-4D56DCA0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BF4E-16E0-4CD1-9918-7F20E2D9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BA5BA556-4AA7-4FFE-BC8B-67A496CDF96C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D8D112D3-DA3D-4B98-B617-99038352AA6F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B0EDA1E1-5F9D-4091-827B-7C36BDFA88BB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E344C29D-4820-4E3F-88D7-AB5359BE762A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1988640"/>
            <a:ext cx="10157040" cy="792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71000"/>
          </a:bodyPr>
          <a:p>
            <a:pPr marL="214920" indent="-2149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W jakich okolicznościach układamy poszkodowanego w pozycji czterokończynowej, a w jakich w pozycji bezpiecznej?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98440" y="1844280"/>
            <a:ext cx="10220400" cy="3102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W pozycji czterokończynowej układamy poszkodowanego </a:t>
            </a:r>
            <a:br>
              <a:rPr sz="2400"/>
            </a:b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w sytuacji omdlenia, a w pozycji bezpiecznej w sytuacji utraty przytomności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50:3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